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DCBD-4666-4F5A-A559-FAA19B44AE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789B-191D-40DD-8EF3-41816DAE1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11325-A084-4176-83C8-145E6E363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9547B-502B-4AE8-BD24-EFE42BAC7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7A7E9-E8F9-4F66-8EFF-0E8D1B566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AC1FF-357F-4BA4-806E-02334C8C6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9A0D-4E23-4D9A-8C48-8D9AD8B8E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18076-5D0D-4AA4-8FB7-46BE92DEA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7175-C9BB-422D-856C-4C7A7B86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45006C-82E5-4D4E-91B6-CD9A73FF9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0E834-92F1-4223-B4F8-EA2D410D5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8E35-8A29-40AD-A4FB-106FEF882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0F631-F5D0-45E2-88A9-B475E341AD5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Calibri Light"/>
              </a:rPr>
              <a:t>Lorem ipsum</a:t>
            </a:r>
            <a:endParaRPr b="0" lang="en-US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3-20T13:43:09Z</dcterms:created>
  <dc:creator>Microsoft Office User</dc:creator>
  <dc:description/>
  <cp:keywords/>
  <dc:language>en-US</dc:language>
  <cp:lastModifiedBy>Microsoft Office User</cp:lastModifiedBy>
  <dcterms:modified xsi:type="dcterms:W3CDTF">2019-03-20T13:44:24Z</dcterms:modified>
  <cp:revision>2</cp:revision>
  <dc:subject/>
  <dc:title>Lorem ipsum</dc:title>
</cp:coreProperties>
</file>