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56413"/>
        <c:axId val="50282231"/>
      </c:barChart>
      <c:catAx>
        <c:axId val="45956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82231"/>
        <c:crosses val="autoZero"/>
        <c:auto val="1"/>
        <c:lblAlgn val="ctr"/>
        <c:lblOffset val="100"/>
        <c:noMultiLvlLbl val="0"/>
      </c:catAx>
      <c:valAx>
        <c:axId val="50282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56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193-D354-43E3-904F-936ECF82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C58-360B-468E-A4AF-A6B7D9C0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885-7F8D-400C-9904-592B06F7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5D6-764E-4AFE-A34A-E53A985E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1F96-5CB1-4F94-A615-591C8DFD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D97-CAD8-4158-B969-6FC742A9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9C2-9C04-44CD-8A30-FD2AF0C8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3CE-D528-4EF8-B0D7-7E5EB94E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915-2A26-4CDF-B344-FB9C5E62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2CF-3152-4A2C-BC59-A2959400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3C0-B872-4F06-8C57-64CD66D1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DF3-3B2B-4EDE-92FE-E4759277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CB1A2-B684-4133-9B15-97E7DC1DCC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