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4751"/>
        <c:axId val="84886304"/>
      </c:barChart>
      <c:catAx>
        <c:axId val="78254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86304"/>
        <c:crosses val="autoZero"/>
        <c:auto val="1"/>
        <c:lblAlgn val="ctr"/>
        <c:lblOffset val="100"/>
        <c:noMultiLvlLbl val="0"/>
      </c:catAx>
      <c:valAx>
        <c:axId val="8488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4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021-1E72-4B32-8B2A-E4851AB3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485-B5DE-41B3-960F-BF46731C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775-FFD6-48D8-B8A1-B84D2ACB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717-8EE0-4ACC-9624-918F8D29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876-6271-43BF-A17B-6C6F9524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E90-F2BF-49F4-819E-4BF26951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AA6-621F-45D9-81D8-A17127F0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161-E47E-47F0-BB4F-87F5D976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939-4820-43B1-8B19-530AABF3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B07-461D-4836-BB22-8DFE116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F9E-7839-4602-9474-7CFCA9B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77C-6C65-45C2-B811-F578A58C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FB2ED-6FD1-4075-A47B-62139D4EB5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