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466927"/>
        <c:axId val="82608934"/>
      </c:barChart>
      <c:catAx>
        <c:axId val="91466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08934"/>
        <c:crosses val="autoZero"/>
        <c:auto val="1"/>
        <c:lblAlgn val="ctr"/>
        <c:lblOffset val="100"/>
        <c:noMultiLvlLbl val="0"/>
      </c:catAx>
      <c:valAx>
        <c:axId val="82608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66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F2D-F476-4CAA-AE8E-A3308A28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4B0-425B-41A5-B422-EBC751E9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0C0-E1AD-47D5-AAF8-950D2451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871-C259-4057-9316-D8D9B2E4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F54-48C3-4C8D-8319-F8BD8F2D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323-74FF-4D53-9994-A6608A52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257D-E9A2-4248-8EA6-B90FE2E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6DB-9CE6-4BF2-9047-2D01F0D6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859-883E-4E23-9BA1-22F9DD9B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51A-6FE3-4435-A1D4-CFCCA870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2BC-E61B-48DB-B0EE-04267891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85D-4518-440B-8FFD-C9AFF82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E1B70-4A9B-48E6-B07D-03C451C3E4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