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67617"/>
        <c:axId val="166646"/>
      </c:barChart>
      <c:catAx>
        <c:axId val="79567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646"/>
        <c:crosses val="autoZero"/>
        <c:auto val="1"/>
        <c:lblAlgn val="ctr"/>
        <c:lblOffset val="100"/>
        <c:noMultiLvlLbl val="0"/>
      </c:catAx>
      <c:valAx>
        <c:axId val="166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67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C37-E60A-4C87-9089-92005F70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DA2-DAF7-48D4-BA7A-7CD11E4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4A4-A574-4C48-8397-0DE57AFB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427-7A65-47F2-8B7E-2D443B68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377-855D-4F7E-8C37-9CA6C728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A28-7FC1-4AD2-A649-83BFBF5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D9E-DBFF-4EC1-AD0C-4D9383E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9B4-D25D-466E-8922-20C67D7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1C4-2CF4-48A8-9571-E709B4A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5BD-20A1-4B0E-810D-E0A5D12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772-C710-49C2-BC68-516C101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2ED-4B45-41AE-B5E7-EE6D8AA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12A5F-45FB-424A-AF6B-98AF678CE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