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782177"/>
        <c:axId val="41618214"/>
      </c:barChart>
      <c:catAx>
        <c:axId val="347821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618214"/>
        <c:crosses val="autoZero"/>
        <c:auto val="1"/>
        <c:lblAlgn val="ctr"/>
        <c:lblOffset val="100"/>
        <c:noMultiLvlLbl val="0"/>
      </c:catAx>
      <c:valAx>
        <c:axId val="416182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821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C70E-9FDA-4688-AF8A-354047E3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4F71-9794-4BD6-84F0-8875B339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F421-7B70-4C27-82FE-1D5B9191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175C-C906-4838-B9C4-0B6BDDB2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FAD0-0D44-478F-98B9-85FF8D5A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717E-32A6-4A0E-8A4D-82E9A14B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32F2-695E-4F3A-A98E-448E5A3F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254C-9ED4-463B-8C35-BD61CCF3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D01-B111-4F17-A738-A72A2801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586F-FBD0-4882-AED1-6E2490FE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286F-F92C-4B28-9CE5-0C29EAE5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0132-2262-4681-B838-56F54763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A09AB-0AF7-4B70-A5A5-53047CBA46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